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563-9F09-4782-AA48-BB68F3A4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BDB-52D4-4026-B1E4-199BF6B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EBD-95C4-46D9-8248-647019F7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17C-77A7-4E02-8281-3B8AC7F7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4A3-9471-40AF-9266-FB5421B7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C647-3D23-489C-8A27-5872DDB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79D-D144-47B1-B4A6-FDFB8F3A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609C-9FDC-4072-93D1-56B6B96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8EB9-8FD5-4C71-B599-D475093C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520A-310F-4D4D-952D-55AD1F1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FAAF-A6A3-48E7-AF05-0B2C57B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B85-03C7-479B-A07F-4C752EBC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45F-F9FB-4380-B466-AADBC7E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E49-4B0D-4767-BD22-916ACC6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1608-52D4-41BA-A8F3-1DFA5DCC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7202-FE50-4436-A063-9FD4AC48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0A4-5504-452E-B2A6-DD762D27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C34-E3DF-4F21-857B-4C7EACA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6CD-8202-4AC4-B241-B4C8B82F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AD4-B91F-4F05-A131-9B42FF8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EC6-654D-4AF5-B252-ABDCBD3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F16-5AC4-4186-8168-AEDDAA8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FF9-2025-4492-AD9F-7826EC6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370-A048-47EE-B271-55FB607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C77-9733-4C8F-9444-9A148B14AB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50C6-1283-44D6-92E4-9DF18C82DE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4009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резентация  на тем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Вся   душа   России   в   народных  песнях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  Земцова  Валентина Николаевна,  преподаватель  МОУ  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 Детская школа  искусств» пгт.Свеча  Киров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21  г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ляда,   свят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8" descr="post-221-1269175836"/>
          <p:cNvPicPr/>
          <p:nvPr/>
        </p:nvPicPr>
        <p:blipFill>
          <a:blip r:embed="rId1"/>
          <a:stretch/>
        </p:blipFill>
        <p:spPr>
          <a:xfrm>
            <a:off x="214200" y="1857240"/>
            <a:ext cx="4357800" cy="471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68003"/>
          <p:cNvPicPr/>
          <p:nvPr/>
        </p:nvPicPr>
        <p:blipFill>
          <a:blip r:embed="rId2"/>
          <a:stretch/>
        </p:blipFill>
        <p:spPr>
          <a:xfrm>
            <a:off x="4786200" y="1571760"/>
            <a:ext cx="421488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Рисунок2"/>
          <p:cNvPicPr/>
          <p:nvPr/>
        </p:nvPicPr>
        <p:blipFill>
          <a:blip r:embed="rId1"/>
          <a:stretch/>
        </p:blipFill>
        <p:spPr>
          <a:xfrm>
            <a:off x="108000" y="189000"/>
            <a:ext cx="4680000" cy="6480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5214960" y="285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есенки-коляд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4929120" y="1571760"/>
            <a:ext cx="4071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оляда, коляд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одавай пирог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лин да лепеш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 заднее окошк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 дашь пирог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ы корову за р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е дашь блинк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Мы хозяина в пин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слен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8" descr="boris-kustodiev-maslanitsa-1919"/>
          <p:cNvPicPr/>
          <p:nvPr/>
        </p:nvPicPr>
        <p:blipFill>
          <a:blip r:embed="rId1"/>
          <a:stretch/>
        </p:blipFill>
        <p:spPr>
          <a:xfrm>
            <a:off x="500040" y="15717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3214800"/>
            <a:ext cx="8929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н – встреча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Вт – заигрыш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р – лакомк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Чт – широкий четвер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т – тёщины вечерки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б – золовкины посидел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 – прощёное воскресенье(проводы маслениц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4" descr="1231157916_image010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4675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71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5.jpg"/>
          <p:cNvPicPr/>
          <p:nvPr/>
        </p:nvPicPr>
        <p:blipFill>
          <a:blip r:embed="rId1"/>
          <a:stretch/>
        </p:blipFill>
        <p:spPr>
          <a:xfrm>
            <a:off x="3143160" y="228600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0" y="285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Ж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ЧЕЛА  МАСЛЕН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0" y="100008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шные гуля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марка венч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свидань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лениц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приходи опять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год Красавиц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а повстречае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ова буд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празднова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инами угощат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Новая папка\Старинные свадьбы\h_hol.jpg"/>
          <p:cNvPicPr/>
          <p:nvPr/>
        </p:nvPicPr>
        <p:blipFill>
          <a:blip r:embed="rId1"/>
          <a:stretch/>
        </p:blipFill>
        <p:spPr>
          <a:xfrm>
            <a:off x="285840" y="1571760"/>
            <a:ext cx="8643960" cy="5286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адеб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рические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2" descr="C:\Documents and Settings\User\Рабочий стол\398827af96592d332323039b045d24e9.jpg"/>
          <p:cNvPicPr/>
          <p:nvPr/>
        </p:nvPicPr>
        <p:blipFill>
          <a:blip r:embed="rId1"/>
          <a:stretch/>
        </p:blipFill>
        <p:spPr>
          <a:xfrm>
            <a:off x="523800" y="1285920"/>
            <a:ext cx="8096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мщицкие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4" descr="C:\Users\Пользователь\Desktop\ямщик.jpg"/>
          <p:cNvPicPr/>
          <p:nvPr/>
        </p:nvPicPr>
        <p:blipFill>
          <a:blip r:embed="rId1"/>
          <a:stretch/>
        </p:blipFill>
        <p:spPr>
          <a:xfrm>
            <a:off x="642960" y="1428840"/>
            <a:ext cx="7786800" cy="50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25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ылинные и исторические   песни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4" descr="C:\Users\Пользователь\Desktop\Садко1.jpg"/>
          <p:cNvPicPr/>
          <p:nvPr/>
        </p:nvPicPr>
        <p:blipFill>
          <a:blip r:embed="rId1"/>
          <a:stretch/>
        </p:blipFill>
        <p:spPr>
          <a:xfrm>
            <a:off x="4643280" y="285840"/>
            <a:ext cx="428652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Пользователь\Desktop\былина 1.jpg"/>
          <p:cNvPicPr/>
          <p:nvPr/>
        </p:nvPicPr>
        <p:blipFill>
          <a:blip r:embed="rId2"/>
          <a:stretch/>
        </p:blipFill>
        <p:spPr>
          <a:xfrm>
            <a:off x="214200" y="278604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омпозиторы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5" descr="C:\Users\Пользователь\Desktop\Лядов.jpg"/>
          <p:cNvPicPr/>
          <p:nvPr/>
        </p:nvPicPr>
        <p:blipFill>
          <a:blip r:embed="rId1"/>
          <a:stretch/>
        </p:blipFill>
        <p:spPr>
          <a:xfrm rot="20869200">
            <a:off x="250920" y="218880"/>
            <a:ext cx="2357280" cy="263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Пользователь\Desktop\Балакирев.jpg"/>
          <p:cNvPicPr/>
          <p:nvPr/>
        </p:nvPicPr>
        <p:blipFill>
          <a:blip r:embed="rId2"/>
          <a:stretch/>
        </p:blipFill>
        <p:spPr>
          <a:xfrm rot="294000">
            <a:off x="6190920" y="97920"/>
            <a:ext cx="2432160" cy="2900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0a91b76f7552fb2d995ad7c7ea2"/>
          <p:cNvPicPr/>
          <p:nvPr/>
        </p:nvPicPr>
        <p:blipFill>
          <a:blip r:embed="rId3"/>
          <a:stretch/>
        </p:blipFill>
        <p:spPr>
          <a:xfrm rot="21351000">
            <a:off x="2822400" y="509400"/>
            <a:ext cx="2357640" cy="307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48635118"/>
          <p:cNvPicPr/>
          <p:nvPr/>
        </p:nvPicPr>
        <p:blipFill>
          <a:blip r:embed="rId4">
            <a:lum contrast="12000"/>
          </a:blip>
          <a:stretch/>
        </p:blipFill>
        <p:spPr>
          <a:xfrm rot="21055800">
            <a:off x="241200" y="2962080"/>
            <a:ext cx="2500560" cy="325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tchaikovsky"/>
          <p:cNvPicPr/>
          <p:nvPr/>
        </p:nvPicPr>
        <p:blipFill>
          <a:blip r:embed="rId5"/>
          <a:stretch/>
        </p:blipFill>
        <p:spPr>
          <a:xfrm rot="358800">
            <a:off x="6426360" y="3125520"/>
            <a:ext cx="2571480" cy="2940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Прямоугольник 7"/>
          <p:cNvSpPr/>
          <p:nvPr/>
        </p:nvSpPr>
        <p:spPr>
          <a:xfrm>
            <a:off x="1143000" y="62737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К. Лядов, М.П. Мусоргский,М.А. Балакирев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П. Бородин, М.И. Глинка, П.И. Чайков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C:\Documents and Settings\User\Рабочий стол\0003-003-.jpg"/>
          <p:cNvPicPr/>
          <p:nvPr/>
        </p:nvPicPr>
        <p:blipFill>
          <a:blip r:embed="rId6"/>
          <a:stretch/>
        </p:blipFill>
        <p:spPr>
          <a:xfrm rot="419400">
            <a:off x="3884760" y="3203280"/>
            <a:ext cx="233820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73800117_63322582_1283025053_3002541_large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57120" y="928800"/>
            <a:ext cx="8501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dda30"/>
                </a:solidFill>
                <a:latin typeface="Times New Roman"/>
              </a:rPr>
              <a:t>Спасибо   за  внимание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родные певцы, сказит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8" descr="42307371_SCHrilyov_Mihail_Nikolaevich"/>
          <p:cNvPicPr/>
          <p:nvPr/>
        </p:nvPicPr>
        <p:blipFill>
          <a:blip r:embed="rId1"/>
          <a:stretch/>
        </p:blipFill>
        <p:spPr>
          <a:xfrm>
            <a:off x="5715000" y="1143000"/>
            <a:ext cx="3254400" cy="434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3dddf5238dab"/>
          <p:cNvPicPr/>
          <p:nvPr/>
        </p:nvPicPr>
        <p:blipFill>
          <a:blip r:embed="rId2"/>
          <a:stretch/>
        </p:blipFill>
        <p:spPr>
          <a:xfrm>
            <a:off x="142920" y="2643120"/>
            <a:ext cx="54291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лыбель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4" descr="C:\Users\Пользователь\Desktop\колыбель.jpg"/>
          <p:cNvPicPr/>
          <p:nvPr/>
        </p:nvPicPr>
        <p:blipFill>
          <a:blip r:embed="rId1"/>
          <a:stretch/>
        </p:blipFill>
        <p:spPr>
          <a:xfrm>
            <a:off x="642960" y="1285920"/>
            <a:ext cx="79297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3714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баутки,  детские   игровые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C:\Users\Пользователь\Desktop\игровые детские.jp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516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Documents and Settings\User\Рабочий стол\QK2lZVZlKWA (1).jpg"/>
          <p:cNvPicPr/>
          <p:nvPr/>
        </p:nvPicPr>
        <p:blipFill>
          <a:blip r:embed="rId2"/>
          <a:stretch/>
        </p:blipFill>
        <p:spPr>
          <a:xfrm>
            <a:off x="0" y="3357720"/>
            <a:ext cx="5294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ясовые  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2" descr="C:\Documents and Settings\User\Рабочий стол\CS 2432.jpg"/>
          <p:cNvPicPr/>
          <p:nvPr/>
        </p:nvPicPr>
        <p:blipFill>
          <a:blip r:embed="rId1"/>
          <a:stretch/>
        </p:blipFill>
        <p:spPr>
          <a:xfrm>
            <a:off x="225360" y="1393920"/>
            <a:ext cx="87044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4214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роводные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3" descr="C:\Documents and Settings\User\Рабочий стол\p-8bMxTnAVI.jpg"/>
          <p:cNvPicPr/>
          <p:nvPr/>
        </p:nvPicPr>
        <p:blipFill>
          <a:blip r:embed="rId1"/>
          <a:stretch/>
        </p:blipFill>
        <p:spPr>
          <a:xfrm>
            <a:off x="4000680" y="285840"/>
            <a:ext cx="5143320" cy="442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content_horovody1_1__econet_ru.jpg"/>
          <p:cNvPicPr/>
          <p:nvPr/>
        </p:nvPicPr>
        <p:blipFill>
          <a:blip r:embed="rId2"/>
          <a:stretch/>
        </p:blipFill>
        <p:spPr>
          <a:xfrm>
            <a:off x="0" y="2571840"/>
            <a:ext cx="5000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гровые    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C:\Users\Пользователь\Desktop\игров.взр.2.jpg"/>
          <p:cNvPicPr/>
          <p:nvPr/>
        </p:nvPicPr>
        <p:blipFill>
          <a:blip r:embed="rId1"/>
          <a:stretch/>
        </p:blipFill>
        <p:spPr>
          <a:xfrm>
            <a:off x="571680" y="1214280"/>
            <a:ext cx="7858080" cy="542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ртина  И. Репина 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 Бурлаки  на  Волг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4" descr="C:\Users\Пользователь\Desktop\бурлаки.jpg"/>
          <p:cNvPicPr/>
          <p:nvPr/>
        </p:nvPicPr>
        <p:blipFill>
          <a:blip r:embed="rId1"/>
          <a:stretch/>
        </p:blipFill>
        <p:spPr>
          <a:xfrm>
            <a:off x="571680" y="1785960"/>
            <a:ext cx="80722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8:40:59Z</dcterms:created>
  <dc:creator>User</dc:creator>
  <dc:description/>
  <dc:language>en-US</dc:language>
  <cp:lastModifiedBy>Пользователь</cp:lastModifiedBy>
  <dcterms:modified xsi:type="dcterms:W3CDTF">2021-11-16T07:44:39Z</dcterms:modified>
  <cp:revision>53</cp:revision>
  <dc:subject/>
  <dc:title>Народные песни</dc:title>
</cp:coreProperties>
</file>